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E9FA8-F643-49F9-A5ED-0A5742CA5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9AFE-89C0-487A-9366-44C82F78D5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9C0-2774-406D-94B5-BB1B0416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5140-C74F-4107-ADC8-E13F7C4D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8711-EA79-454A-9606-1A8AE153B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13A-4FF3-4F1D-BAD8-C7CE2824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664B-724C-4B14-8D0E-66B81CA3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62F-8065-4F14-AE2E-8755ABDE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AA44-AD51-497D-B998-CF29255E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4F50-59E1-4A22-9394-6B5E52C4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D0BE-3EA6-40F0-9F2B-B6E332A4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2E4A-306F-4D8F-9CC8-236E42856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D902-7864-4209-B92F-9F5EE449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88C6-FD3D-4AB8-A60E-975FCFE4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2C6D-CFD2-41A4-9D71-8A8B923D0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science.smith.edu/departments/Biology/Bio231/" TargetMode="External"/><Relationship Id="rId3" Type="http://schemas.openxmlformats.org/officeDocument/2006/relationships/hyperlink" Target="http://www.science.smith.edu/departments/Biology/Bio231/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highered.mcgraw-hill.com/sites/0072507470/student_view0/chapter25/animation__how_glycolysis_works.html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re does your body get energy???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there better sources for energy? Explai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P releases energy by breaking a phosphate group and becoming AD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4114800"/>
            <a:ext cx="8763120" cy="2473200"/>
          </a:xfrm>
          <a:prstGeom prst="rect">
            <a:avLst/>
          </a:prstGeom>
          <a:ln w="0">
            <a:noFill/>
          </a:ln>
        </p:spPr>
      </p:pic>
      <p:sp>
        <p:nvSpPr>
          <p:cNvPr id="83" name="Explosion 2 4"/>
          <p:cNvSpPr/>
          <p:nvPr/>
        </p:nvSpPr>
        <p:spPr>
          <a:xfrm>
            <a:off x="6934320" y="4724280"/>
            <a:ext cx="1981080" cy="1524240"/>
          </a:xfrm>
          <a:prstGeom prst="irregularSeal2">
            <a:avLst/>
          </a:prstGeom>
          <a:noFill/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xplosion 2 5"/>
          <p:cNvSpPr/>
          <p:nvPr/>
        </p:nvSpPr>
        <p:spPr>
          <a:xfrm>
            <a:off x="3962520" y="4191120"/>
            <a:ext cx="1676160" cy="1218960"/>
          </a:xfrm>
          <a:prstGeom prst="irregularSeal2">
            <a:avLst/>
          </a:prstGeom>
          <a:noFill/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Explosion 2 6"/>
          <p:cNvSpPr/>
          <p:nvPr/>
        </p:nvSpPr>
        <p:spPr>
          <a:xfrm>
            <a:off x="-228600" y="3809880"/>
            <a:ext cx="2057400" cy="1676520"/>
          </a:xfrm>
          <a:prstGeom prst="irregularSeal2">
            <a:avLst/>
          </a:prstGeom>
          <a:noFill/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ATP? How does it wor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P is </a:t>
            </a:r>
            <a:r>
              <a:rPr b="1" lang="en-US" sz="3200" spc="-1" strike="noStrike" u="sng">
                <a:solidFill>
                  <a:srgbClr val="4f6228"/>
                </a:solidFill>
                <a:uFillTx/>
                <a:latin typeface="Calibri"/>
              </a:rPr>
              <a:t>ENERG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 the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created from GLUC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57200" y="3200400"/>
            <a:ext cx="8483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.A.P.: Nutrition and S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notes on page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mary of thoughts on page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ounded Rectangle 4"/>
          <p:cNvSpPr/>
          <p:nvPr/>
        </p:nvSpPr>
        <p:spPr>
          <a:xfrm>
            <a:off x="1143000" y="411480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xplosion 2 3"/>
          <p:cNvSpPr/>
          <p:nvPr/>
        </p:nvSpPr>
        <p:spPr>
          <a:xfrm>
            <a:off x="914400" y="2057400"/>
            <a:ext cx="1447920" cy="685800"/>
          </a:xfrm>
          <a:prstGeom prst="irregularSeal2">
            <a:avLst/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finitions to kno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P – Adenosine TRI Phosphate -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P – Adenosine DI Phosphate – Used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P turns into ADP when releasing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DH – Electron Carrier, transports electrons to the electron transport ch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ular Respi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er – P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d a 3 people in the room and share your article with them. You also need to listen to their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n write a 8-10 sentence summary on the 3 articles you hear. (3 sentences per article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023840" y="325440"/>
            <a:ext cx="7172280" cy="62863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19051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ell Respir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verview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609588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science.smith.edu/departments/Biology/Bio231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601992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science.smith.edu/departments/Biology/Bio231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lycolo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bio_ch9_4756"/>
          <p:cNvPicPr/>
          <p:nvPr/>
        </p:nvPicPr>
        <p:blipFill>
          <a:blip r:embed="rId1"/>
          <a:stretch/>
        </p:blipFill>
        <p:spPr>
          <a:xfrm>
            <a:off x="704880" y="1447920"/>
            <a:ext cx="8134200" cy="2420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609480" y="2819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7467480" y="2895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Pyruv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11"/>
          <p:cNvSpPr/>
          <p:nvPr/>
        </p:nvSpPr>
        <p:spPr>
          <a:xfrm>
            <a:off x="7620120" y="2819520"/>
            <a:ext cx="1447560" cy="6094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12"/>
          <p:cNvSpPr/>
          <p:nvPr/>
        </p:nvSpPr>
        <p:spPr>
          <a:xfrm>
            <a:off x="7543800" y="2743200"/>
            <a:ext cx="1447920" cy="6094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Elbow Connector 16"/>
          <p:cNvCxnSpPr/>
          <p:nvPr/>
        </p:nvCxnSpPr>
        <p:spPr>
          <a:xfrm rot="5400000">
            <a:off x="303840" y="3886200"/>
            <a:ext cx="915120" cy="15300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8" name="Elbow Connector 18"/>
          <p:cNvCxnSpPr/>
          <p:nvPr/>
        </p:nvCxnSpPr>
        <p:spPr>
          <a:xfrm flipV="1" rot="10800000">
            <a:off x="913680" y="3427920"/>
            <a:ext cx="7315920" cy="153000"/>
          </a:xfrm>
          <a:prstGeom prst="bentConnector3">
            <a:avLst>
              <a:gd name="adj1" fmla="val 49997"/>
            </a:avLst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09" name="TextBox 20"/>
          <p:cNvSpPr/>
          <p:nvPr/>
        </p:nvSpPr>
        <p:spPr>
          <a:xfrm>
            <a:off x="380880" y="4267080"/>
            <a:ext cx="8991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yruvic Acid then goes into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EROB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ANAEROBI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spir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highered.mcgraw-hill.com/sites/0072507470/student_view0/chapter25/animation__how_glycolysis_works.htm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icture 10"/>
          <p:cNvSpPr/>
          <p:nvPr/>
        </p:nvSpPr>
        <p:spPr>
          <a:xfrm>
            <a:off x="6934320" y="4191120"/>
            <a:ext cx="30477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Lactic Acid Production - ANEROB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bio_ch9_4757"/>
          <p:cNvPicPr/>
          <p:nvPr/>
        </p:nvPicPr>
        <p:blipFill>
          <a:blip r:embed="rId1"/>
          <a:stretch/>
        </p:blipFill>
        <p:spPr>
          <a:xfrm>
            <a:off x="228600" y="1600200"/>
            <a:ext cx="8451720" cy="2690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190440" y="2743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luc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000680" y="28116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yruv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086600" y="26668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Lactic ac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7"/>
          <p:cNvSpPr/>
          <p:nvPr/>
        </p:nvSpPr>
        <p:spPr>
          <a:xfrm>
            <a:off x="228600" y="4191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out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oxyg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LACTIC ACID PRODUC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fuels glycol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ular Respiration Must Kn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erize how ATP is created from GLUCO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 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role of FERMEN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the role of OXYGEN in AEROBIC RESPI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er Cell Respiration P._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cribe how Glycolosis and the Lactic Acid cycle work togeth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bio_ch9_4760"/>
          <p:cNvPicPr/>
          <p:nvPr/>
        </p:nvPicPr>
        <p:blipFill>
          <a:blip r:embed="rId1"/>
          <a:stretch/>
        </p:blipFill>
        <p:spPr>
          <a:xfrm>
            <a:off x="1676520" y="533520"/>
            <a:ext cx="11310840" cy="57909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1905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rebs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erobic Respi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1219320"/>
            <a:ext cx="90774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synthesis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products? Reacta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the Products and Reactants in Cell Respir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function of Photo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es it use? Mak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914400" y="182880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1066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ical Eq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1494000" y="31240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3103560" y="312408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428920" y="182880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4713120" y="312264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4038480" y="182880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6323040" y="31226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5648400" y="182880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7162920" y="1828800"/>
            <a:ext cx="1298520" cy="1825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3"/>
          <p:cNvSpPr/>
          <p:nvPr/>
        </p:nvSpPr>
        <p:spPr>
          <a:xfrm>
            <a:off x="2438280" y="182880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yco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4"/>
          <p:cNvSpPr/>
          <p:nvPr/>
        </p:nvSpPr>
        <p:spPr>
          <a:xfrm>
            <a:off x="4038480" y="1905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eb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5"/>
          <p:cNvSpPr/>
          <p:nvPr/>
        </p:nvSpPr>
        <p:spPr>
          <a:xfrm>
            <a:off x="5638680" y="182880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6"/>
          <p:cNvSpPr/>
          <p:nvPr/>
        </p:nvSpPr>
        <p:spPr>
          <a:xfrm>
            <a:off x="7257960" y="183348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0"/>
          <p:cNvSpPr/>
          <p:nvPr/>
        </p:nvSpPr>
        <p:spPr>
          <a:xfrm>
            <a:off x="3048120" y="838080"/>
            <a:ext cx="44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2"/>
          <p:cNvSpPr/>
          <p:nvPr/>
        </p:nvSpPr>
        <p:spPr>
          <a:xfrm>
            <a:off x="990720" y="182880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co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0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380880" y="4191120"/>
            <a:ext cx="838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-----------------&gt; 6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Krebs Cycle - Aerobic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0" y="843120"/>
            <a:ext cx="8686800" cy="60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ular Respiration La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are going to run an experiment based on what we learned about cellular respir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 what you learned about Aerobic and Anaerobic respir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 could we of changed the experiemen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447920" y="3809880"/>
          <a:ext cx="5943600" cy="1143000"/>
        </p:xfrm>
        <a:graphic>
          <a:graphicData uri="http://schemas.openxmlformats.org/drawingml/2006/table">
            <a:tbl>
              <a:tblPr/>
              <a:tblGrid>
                <a:gridCol w="2971800"/>
                <a:gridCol w="297180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Without Warm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With Warm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:00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:06 min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i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notate the Articl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’s the main ide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le reading the article generate 6 questions that come to your mi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er p___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ular Respiration 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052" descr="bio_ch9_6027"/>
          <p:cNvPicPr/>
          <p:nvPr/>
        </p:nvPicPr>
        <p:blipFill>
          <a:blip r:embed="rId1"/>
          <a:stretch/>
        </p:blipFill>
        <p:spPr>
          <a:xfrm>
            <a:off x="485640" y="1828800"/>
            <a:ext cx="735804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2053"/>
          <p:cNvSpPr/>
          <p:nvPr/>
        </p:nvSpPr>
        <p:spPr>
          <a:xfrm>
            <a:off x="457200" y="2438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luc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054"/>
          <p:cNvSpPr/>
          <p:nvPr/>
        </p:nvSpPr>
        <p:spPr>
          <a:xfrm>
            <a:off x="2057400" y="30481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lycoly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055"/>
          <p:cNvSpPr/>
          <p:nvPr/>
        </p:nvSpPr>
        <p:spPr>
          <a:xfrm>
            <a:off x="4267080" y="297180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Krebs cycle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056"/>
          <p:cNvSpPr/>
          <p:nvPr/>
        </p:nvSpPr>
        <p:spPr>
          <a:xfrm>
            <a:off x="6019920" y="29718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Electr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057"/>
          <p:cNvSpPr/>
          <p:nvPr/>
        </p:nvSpPr>
        <p:spPr>
          <a:xfrm>
            <a:off x="3733920" y="44956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Fermentation (without oxyg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58"/>
          <p:cNvSpPr/>
          <p:nvPr/>
        </p:nvSpPr>
        <p:spPr>
          <a:xfrm>
            <a:off x="6934320" y="44197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alibri"/>
              </a:rPr>
              <a:t>Alcohol or lact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64"/>
          <p:cNvSpPr/>
          <p:nvPr/>
        </p:nvSpPr>
        <p:spPr>
          <a:xfrm>
            <a:off x="3814560" y="990720"/>
            <a:ext cx="26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erobic 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065"/>
          <p:cNvSpPr/>
          <p:nvPr/>
        </p:nvSpPr>
        <p:spPr>
          <a:xfrm>
            <a:off x="1769400" y="3782880"/>
            <a:ext cx="163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Anaerob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Re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ounded Rectangle 14"/>
          <p:cNvSpPr/>
          <p:nvPr/>
        </p:nvSpPr>
        <p:spPr>
          <a:xfrm>
            <a:off x="4114800" y="1447920"/>
            <a:ext cx="4572000" cy="22096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ounded Rectangle 15"/>
          <p:cNvSpPr/>
          <p:nvPr/>
        </p:nvSpPr>
        <p:spPr>
          <a:xfrm>
            <a:off x="1600200" y="3733920"/>
            <a:ext cx="7086600" cy="17524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6"/>
          <p:cNvSpPr/>
          <p:nvPr/>
        </p:nvSpPr>
        <p:spPr>
          <a:xfrm>
            <a:off x="457200" y="5867280"/>
            <a:ext cx="838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 +  6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 ®  6CO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 +  6 H</a:t>
            </a:r>
            <a:r>
              <a:rPr b="0" lang="pt-BR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  +  36 or 38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er 3/8/20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Predict how exercise will affect your body’s production of carbon dioxide._________________________________________________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Label 2 test tubes A and B.  Put 10 mil of water and 3 drops of BTB solution in each test tube. After you insert the straw cover top with cott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One partner is going to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st subject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partner i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recorder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you partner says “Go!”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lowl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w air through a straw into the bottom of the test tube.  Do not blow hard or you will overflow your test tub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When the solution changes color, your partner should say “Stop!” and then record how long the color change took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 Jog in place for 1 minute and repeat steps 3 and 4 using test tube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Explosion 2 3"/>
          <p:cNvSpPr/>
          <p:nvPr/>
        </p:nvSpPr>
        <p:spPr>
          <a:xfrm>
            <a:off x="6858000" y="0"/>
            <a:ext cx="2286000" cy="1523880"/>
          </a:xfrm>
          <a:prstGeom prst="irregularSeal2">
            <a:avLst/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PY THIS DOW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ter Assess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286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Photosynthesis (3 Part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1-Sunli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2-Chem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b050"/>
                </a:solidFill>
                <a:latin typeface="Calibri"/>
              </a:rPr>
              <a:t>3-Carbohydrates &amp; O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Respi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Glycol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4f81bd"/>
                </a:solidFill>
                <a:latin typeface="Calibri"/>
              </a:rPr>
              <a:t>5-Anaerobic - Lactic Ac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6-Aerobic – Krebs Cycl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7-Electron Transport Ch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8-  36 AT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9- CO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Krebs Cycle ETC – 32 ATP produc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DH FADH drop off electrons to create ATP through HYDROGEN PU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ular Respiration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___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35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organic compound is your body’s main source of energy???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does your body get energ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does your body do with extra energ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happened when there is no energ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piration R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 A is not going to run in p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ent B is going to run in place for 1 min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’s test tube will change color first??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ergy in Living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 as MANY forms of ENERGY as you ca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733920" y="2209680"/>
            <a:ext cx="1962000" cy="1962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0" y="4524480"/>
            <a:ext cx="5257800" cy="2333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457200" y="2286000"/>
            <a:ext cx="2381400" cy="160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4"/>
          <a:stretch/>
        </p:blipFill>
        <p:spPr>
          <a:xfrm>
            <a:off x="6276960" y="2133720"/>
            <a:ext cx="286704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w of Energy Through a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 you recall METABOLISM?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abolism is the sum of ALL chemical processes in an organism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sms are classified in two catego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create their OWN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have to EAT to gain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85800" y="5295960"/>
            <a:ext cx="80010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totrophs &amp; Heterotrop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tro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eate their OWN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create energy from sunlight, some can create energy from INORGANIC chemic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terotrop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e to EAT to get their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create energy throug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ELLULAR RESPI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762120" y="4800600"/>
            <a:ext cx="2485800" cy="1743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4724280" y="4038480"/>
            <a:ext cx="38689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ner 3/8/20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es your body get energy from energy? Expl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1:27:32Z</dcterms:created>
  <dc:creator>AJ Cappello</dc:creator>
  <dc:description/>
  <dc:language>en-US</dc:language>
  <cp:lastModifiedBy>CUSD300</cp:lastModifiedBy>
  <dcterms:modified xsi:type="dcterms:W3CDTF">2012-10-23T20:07:55Z</dcterms:modified>
  <cp:revision>50</cp:revision>
  <dc:subject/>
  <dc:title>Cellular Respiration</dc:title>
</cp:coreProperties>
</file>